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0E60-3B9F-43A8-B21A-D0FDFEAF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5CE1-21AF-416C-9C68-D0B51C4B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7C6-E707-42C9-81FD-81E13FBE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D80-C6FA-41AE-AA4E-A3B25D12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583B-A50F-4775-A41A-EA20DD5F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6BD9-EC02-46E0-8A82-7F1480B3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906-B61B-4E1D-B358-ED7334F7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5C6-5405-4C7F-B798-4881DECC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2051-94EF-404F-A8FD-E9BAA9A5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FFC6-F63A-4602-889B-B0969140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9FCF-0D4D-4CEF-ADC7-08F10F9B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8F90-6744-4CC7-871B-ABAF2D6B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CC5A-6B74-4D65-9A86-06F234716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ETODA BACKTRACK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50920" y="62136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219640" y="1628640"/>
            <a:ext cx="316728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9T11:15:51Z</dcterms:modified>
  <cp:revision>32</cp:revision>
  <dc:subject/>
  <dc:title>SALARIUL</dc:title>
</cp:coreProperties>
</file>